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074-FAB1-41B9-8AAA-EE253D19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B54-D227-4F1C-AAE9-507702F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9C7-9F5B-4A23-8BEF-72292606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97C-FB18-46DD-9CE2-2714B6BC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4C0-1881-4CB0-8354-5636D4BC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BC9-A3C9-43A2-8596-D5B756A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3F4-D0A7-4B1A-8BE5-786447F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BB4-499F-4438-B5B2-358C029B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03A-DE3F-4907-82B9-8950E3D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66F-008D-4D11-A994-8617BAA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70C-6DC5-4B08-A7D5-B7EEBEF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CC2-D9F3-4B89-9975-7331B09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447E-58AF-4E35-9B5D-E2E0E37DF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57480" y="2408400"/>
            <a:ext cx="4573440" cy="3430440"/>
            <a:chOff x="1257480" y="2408400"/>
            <a:chExt cx="4573440" cy="3430440"/>
          </a:xfrm>
        </p:grpSpPr>
        <p:sp>
          <p:nvSpPr>
            <p:cNvPr id="42" name=""/>
            <p:cNvSpPr/>
            <p:nvPr/>
          </p:nvSpPr>
          <p:spPr>
            <a:xfrm>
              <a:off x="1257480" y="240840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75320" y="5667480"/>
              <a:ext cx="30312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88000" y="5634000"/>
              <a:ext cx="68040" cy="651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13360" y="558000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9600" y="5667480"/>
              <a:ext cx="30348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32280" y="5634000"/>
              <a:ext cx="66960" cy="6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56200" y="558000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47360" y="536256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98800" y="2641680"/>
              <a:ext cx="3416400" cy="2441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98800" y="2641680"/>
              <a:ext cx="3416400" cy="244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4520" y="508320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54520" y="48578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54520" y="46339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4520" y="442296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54520" y="41990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4520" y="39751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4520" y="375120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4520" y="35258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4520" y="33037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4520" y="309096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4520" y="28684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4520" y="26416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09880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786400" y="5083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47040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14504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83084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515200" y="5083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098800" y="4528800"/>
              <a:ext cx="68760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786400" y="4081320"/>
              <a:ext cx="6840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470400" y="3525480"/>
              <a:ext cx="674640" cy="55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145040" y="2868480"/>
              <a:ext cx="68580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098800" y="4422960"/>
              <a:ext cx="68760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86400" y="3975120"/>
              <a:ext cx="6840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470400" y="3751200"/>
              <a:ext cx="67464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145040" y="3525840"/>
              <a:ext cx="6858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67120" y="4822920"/>
              <a:ext cx="66600" cy="712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45" y="46"/>
                  </a:lnTo>
                  <a:lnTo>
                    <a:pt x="0" y="4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51480" y="4492800"/>
              <a:ext cx="66600" cy="698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7280" y="4044960"/>
              <a:ext cx="68040" cy="698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3" y="0"/>
                  </a:moveTo>
                  <a:lnTo>
                    <a:pt x="46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920" y="3490920"/>
              <a:ext cx="6660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920" y="2830680"/>
              <a:ext cx="68400" cy="712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67120" y="4822920"/>
              <a:ext cx="666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51480" y="4386240"/>
              <a:ext cx="6660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7280" y="3940200"/>
              <a:ext cx="6804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1920" y="3716280"/>
              <a:ext cx="6660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95920" y="3490920"/>
              <a:ext cx="684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06040" y="4986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06040" y="4762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4160" y="4540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84160" y="4327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4160" y="41054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4160" y="3879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000" y="365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343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3210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299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2770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0680" y="2548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67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5112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692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15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955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31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864720" y="3819960"/>
              <a:ext cx="136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092680" y="3750840"/>
              <a:ext cx="3423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98760" y="3189240"/>
              <a:ext cx="11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78320" y="3416400"/>
              <a:ext cx="27936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3200" y="4132440"/>
              <a:ext cx="11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179600" y="3836880"/>
              <a:ext cx="26676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474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3720" y="3643200"/>
              <a:ext cx="3630600" cy="261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040" y="62546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2040" y="59612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2040" y="56689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2040" y="53881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2040" y="50958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040" y="48038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040" y="62546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040" y="42292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40" y="39369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040" y="36432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4502160"/>
              <a:ext cx="3630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937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209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1463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871720" y="625464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597120" y="625464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43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5200" y="3968640"/>
              <a:ext cx="5857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20920" y="4197240"/>
              <a:ext cx="7254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46320" y="4635360"/>
              <a:ext cx="725400" cy="60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71720" y="5240160"/>
              <a:ext cx="72540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2000" y="3925800"/>
              <a:ext cx="86040" cy="82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6280" y="4154400"/>
              <a:ext cx="87480" cy="84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03480" y="4594320"/>
              <a:ext cx="856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880" y="5200560"/>
              <a:ext cx="87480" cy="82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6080" y="5942160"/>
              <a:ext cx="85680" cy="824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7560" y="61815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7560" y="5889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7560" y="5595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7560" y="5315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560" y="5022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7560" y="4729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2520" y="4437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200" y="4154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200" y="3862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200" y="3570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7680" y="6346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33080" y="6346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5220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904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0480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18880" y="6578640"/>
              <a:ext cx="95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-749880" y="4840200"/>
              <a:ext cx="195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C(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C(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040" y="45021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176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523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5080" y="3664080"/>
              <a:ext cx="3476880" cy="2543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8720" y="62071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8720" y="57801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720" y="53546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8720" y="49402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8720" y="4516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720" y="40892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28720" y="3664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5080" y="5354640"/>
              <a:ext cx="347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65080" y="53542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739880" y="61927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03520" y="61927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479760" y="61927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341960" y="53542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36800" y="4255920"/>
              <a:ext cx="26496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01760" y="4384800"/>
              <a:ext cx="4381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9880" y="4575240"/>
              <a:ext cx="425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65400" y="4764240"/>
              <a:ext cx="43812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03520" y="4929120"/>
              <a:ext cx="436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40200" y="5072040"/>
              <a:ext cx="4395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79760" y="5211720"/>
              <a:ext cx="4255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05280" y="5343480"/>
              <a:ext cx="436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36800" y="3828960"/>
              <a:ext cx="26496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01760" y="4067280"/>
              <a:ext cx="43812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39880" y="4421160"/>
              <a:ext cx="42552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65400" y="4729320"/>
              <a:ext cx="43812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03520" y="5000760"/>
              <a:ext cx="4366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0200" y="5248440"/>
              <a:ext cx="43956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79760" y="5460840"/>
              <a:ext cx="425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05280" y="5662440"/>
              <a:ext cx="436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360" y="612468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1560" y="5697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4280" y="527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840" y="4857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7440" y="4433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7440" y="4006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440" y="3581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112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4736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7752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519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1560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60280" y="656748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-554040" y="4903920"/>
              <a:ext cx="1559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NPV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76400" y="45720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19120" y="384012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09320" y="4119480"/>
              <a:ext cx="123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sher’s inters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371680" y="4325760"/>
              <a:ext cx="21600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19480" y="469728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626840" y="5900760"/>
              <a:ext cx="6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319480" y="5900760"/>
              <a:ext cx="69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49640" y="56736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 prefer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72200" y="56736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 prefer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1900080" y="2343240"/>
            <a:ext cx="5343840" cy="1360440"/>
            <a:chOff x="1900080" y="2343240"/>
            <a:chExt cx="5343840" cy="1360440"/>
          </a:xfrm>
        </p:grpSpPr>
        <p:sp>
          <p:nvSpPr>
            <p:cNvPr id="578" name=""/>
            <p:cNvSpPr/>
            <p:nvPr/>
          </p:nvSpPr>
          <p:spPr>
            <a:xfrm>
              <a:off x="1900080" y="2343240"/>
              <a:ext cx="5343840" cy="1360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265480" y="2654280"/>
              <a:ext cx="4308480" cy="317520"/>
              <a:chOff x="2265480" y="2654280"/>
              <a:chExt cx="4308480" cy="317520"/>
            </a:xfrm>
          </p:grpSpPr>
          <p:sp>
            <p:nvSpPr>
              <p:cNvPr id="580" name=""/>
              <p:cNvSpPr/>
              <p:nvPr/>
            </p:nvSpPr>
            <p:spPr>
              <a:xfrm>
                <a:off x="235404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4608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4784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4960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56160" y="2876400"/>
                <a:ext cx="144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7920" y="2876400"/>
                <a:ext cx="144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67600" y="2876400"/>
                <a:ext cx="144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265480" y="2917800"/>
                <a:ext cx="4308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395440" y="28656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218124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3836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2428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4836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81360" y="2600280"/>
              <a:ext cx="342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30720" y="2600280"/>
              <a:ext cx="342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05480" y="2600280"/>
              <a:ext cx="342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60480" y="3427560"/>
            <a:ext cx="4512960" cy="3363840"/>
            <a:chOff x="60480" y="3427560"/>
            <a:chExt cx="4512960" cy="3363840"/>
          </a:xfrm>
        </p:grpSpPr>
        <p:sp>
          <p:nvSpPr>
            <p:cNvPr id="597" name=""/>
            <p:cNvSpPr/>
            <p:nvPr/>
          </p:nvSpPr>
          <p:spPr>
            <a:xfrm>
              <a:off x="60480" y="3427560"/>
              <a:ext cx="4512960" cy="336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45840" y="64706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480" y="3427560"/>
              <a:ext cx="4512960" cy="336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4160" y="3646440"/>
              <a:ext cx="3492720" cy="2552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00" y="6199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7800" y="59198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7800" y="5626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7800" y="53467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7800" y="506556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7800" y="47768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7800" y="44974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7800" y="42163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7800" y="3924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7800" y="36464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4160" y="5065560"/>
              <a:ext cx="3492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84160" y="5065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138924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8136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38608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876400" y="619884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38148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387360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37688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884160" y="5743440"/>
              <a:ext cx="246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130400" y="5567040"/>
              <a:ext cx="2588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389240" y="5405400"/>
              <a:ext cx="24588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1635120" y="5229000"/>
              <a:ext cx="2462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881360" y="5065200"/>
              <a:ext cx="2458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127240" y="4892760"/>
              <a:ext cx="25884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386080" y="4717800"/>
              <a:ext cx="24444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630520" y="4554000"/>
              <a:ext cx="2458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876400" y="4377960"/>
              <a:ext cx="2588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135240" y="4216320"/>
              <a:ext cx="24624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381480" y="4039920"/>
              <a:ext cx="2444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625920" y="3866760"/>
              <a:ext cx="24768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84160" y="5765760"/>
              <a:ext cx="24624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130400" y="5626080"/>
              <a:ext cx="258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389240" y="5510160"/>
              <a:ext cx="24588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635120" y="5394240"/>
              <a:ext cx="246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881360" y="5300640"/>
              <a:ext cx="2458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127240" y="5217840"/>
              <a:ext cx="2588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386080" y="5136840"/>
              <a:ext cx="2444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630520" y="5065200"/>
              <a:ext cx="24588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876400" y="5008680"/>
              <a:ext cx="2588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135240" y="4951080"/>
              <a:ext cx="246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381480" y="4903920"/>
              <a:ext cx="244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625920" y="4857840"/>
              <a:ext cx="2476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8080" y="6127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1840" y="584820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1840" y="555480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8560" y="52768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6600" y="499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720" y="4705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8200" y="44258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8200" y="4146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4440" y="38545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440" y="35766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004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6332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5544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5872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5084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30360" y="628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22480" y="628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28640" y="628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19320" y="4386240"/>
              <a:ext cx="87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5519880"/>
              <a:ext cx="87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ed 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2968200" y="5176440"/>
              <a:ext cx="276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49520" y="4637160"/>
              <a:ext cx="41580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-541800" y="4822920"/>
              <a:ext cx="162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CF or DC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60480" y="3487680"/>
            <a:ext cx="4440240" cy="3313080"/>
            <a:chOff x="60480" y="3487680"/>
            <a:chExt cx="4440240" cy="3313080"/>
          </a:xfrm>
        </p:grpSpPr>
        <p:sp>
          <p:nvSpPr>
            <p:cNvPr id="668" name=""/>
            <p:cNvSpPr/>
            <p:nvPr/>
          </p:nvSpPr>
          <p:spPr>
            <a:xfrm>
              <a:off x="60480" y="3487680"/>
              <a:ext cx="4440240" cy="331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9720" y="3730680"/>
              <a:ext cx="2887560" cy="234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73000" y="60721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3000" y="5732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73000" y="54054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73000" y="50655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73000" y="47372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73000" y="4397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73000" y="40705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73000" y="37306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90972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63836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35440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081240" y="6072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79728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82800" y="4070520"/>
              <a:ext cx="145800" cy="1334880"/>
            </a:xfrm>
            <a:custGeom>
              <a:avLst/>
              <a:gdLst/>
              <a:ahLst/>
              <a:rect l="l" t="t" r="r" b="b"/>
              <a:pathLst>
                <a:path w="92" h="841">
                  <a:moveTo>
                    <a:pt x="0" y="0"/>
                  </a:moveTo>
                  <a:lnTo>
                    <a:pt x="8" y="107"/>
                  </a:lnTo>
                  <a:lnTo>
                    <a:pt x="23" y="229"/>
                  </a:lnTo>
                  <a:lnTo>
                    <a:pt x="46" y="459"/>
                  </a:lnTo>
                  <a:lnTo>
                    <a:pt x="53" y="573"/>
                  </a:lnTo>
                  <a:lnTo>
                    <a:pt x="69" y="680"/>
                  </a:lnTo>
                  <a:lnTo>
                    <a:pt x="76" y="764"/>
                  </a:lnTo>
                  <a:lnTo>
                    <a:pt x="92" y="8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28600" y="5405400"/>
              <a:ext cx="144720" cy="266760"/>
            </a:xfrm>
            <a:custGeom>
              <a:avLst/>
              <a:gdLst/>
              <a:ahLst/>
              <a:rect l="l" t="t" r="r" b="b"/>
              <a:pathLst>
                <a:path w="91" h="168">
                  <a:moveTo>
                    <a:pt x="0" y="0"/>
                  </a:moveTo>
                  <a:lnTo>
                    <a:pt x="15" y="61"/>
                  </a:lnTo>
                  <a:lnTo>
                    <a:pt x="46" y="107"/>
                  </a:lnTo>
                  <a:lnTo>
                    <a:pt x="68" y="145"/>
                  </a:lnTo>
                  <a:lnTo>
                    <a:pt x="91" y="1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273320" y="5672160"/>
              <a:ext cx="182520" cy="1332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0" y="0"/>
                  </a:moveTo>
                  <a:lnTo>
                    <a:pt x="31" y="31"/>
                  </a:lnTo>
                  <a:lnTo>
                    <a:pt x="54" y="53"/>
                  </a:lnTo>
                  <a:lnTo>
                    <a:pt x="115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55840" y="580536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0" y="0"/>
                  </a:moveTo>
                  <a:lnTo>
                    <a:pt x="23" y="15"/>
                  </a:lnTo>
                  <a:lnTo>
                    <a:pt x="54" y="23"/>
                  </a:lnTo>
                  <a:lnTo>
                    <a:pt x="76" y="38"/>
                  </a:lnTo>
                  <a:lnTo>
                    <a:pt x="115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38360" y="5878440"/>
              <a:ext cx="350640" cy="8424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0" y="0"/>
                  </a:moveTo>
                  <a:lnTo>
                    <a:pt x="46" y="15"/>
                  </a:lnTo>
                  <a:lnTo>
                    <a:pt x="107" y="30"/>
                  </a:lnTo>
                  <a:lnTo>
                    <a:pt x="160" y="46"/>
                  </a:lnTo>
                  <a:lnTo>
                    <a:pt x="221" y="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9000" y="5962680"/>
              <a:ext cx="365400" cy="36360"/>
            </a:xfrm>
            <a:custGeom>
              <a:avLst/>
              <a:gdLst/>
              <a:ahLst/>
              <a:rect l="l" t="t" r="r" b="b"/>
              <a:pathLst>
                <a:path w="230" h="23">
                  <a:moveTo>
                    <a:pt x="0" y="0"/>
                  </a:moveTo>
                  <a:lnTo>
                    <a:pt x="115" y="16"/>
                  </a:lnTo>
                  <a:lnTo>
                    <a:pt x="230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54400" y="5999040"/>
              <a:ext cx="363240" cy="36720"/>
            </a:xfrm>
            <a:custGeom>
              <a:avLst/>
              <a:gdLst/>
              <a:ahLst/>
              <a:rect l="l" t="t" r="r" b="b"/>
              <a:pathLst>
                <a:path w="229" h="23">
                  <a:moveTo>
                    <a:pt x="0" y="0"/>
                  </a:moveTo>
                  <a:lnTo>
                    <a:pt x="114" y="16"/>
                  </a:lnTo>
                  <a:lnTo>
                    <a:pt x="229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17640" y="6035760"/>
              <a:ext cx="363600" cy="12600"/>
            </a:xfrm>
            <a:custGeom>
              <a:avLst/>
              <a:gdLst/>
              <a:ahLst/>
              <a:rect l="l" t="t" r="r" b="b"/>
              <a:pathLst>
                <a:path w="229" h="8">
                  <a:moveTo>
                    <a:pt x="0" y="0"/>
                  </a:moveTo>
                  <a:lnTo>
                    <a:pt x="114" y="8"/>
                  </a:lnTo>
                  <a:lnTo>
                    <a:pt x="229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82800" y="5781600"/>
              <a:ext cx="145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28600" y="5865840"/>
              <a:ext cx="1447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3320" y="5902200"/>
              <a:ext cx="1825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55840" y="5938920"/>
              <a:ext cx="1825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38360" y="5951520"/>
              <a:ext cx="3506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89000" y="5975280"/>
              <a:ext cx="365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54400" y="5999040"/>
              <a:ext cx="3632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17640" y="6012000"/>
              <a:ext cx="363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60920" y="6072120"/>
              <a:ext cx="7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60920" y="573264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60920" y="5405400"/>
              <a:ext cx="7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60920" y="5065560"/>
              <a:ext cx="7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60920" y="473724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60920" y="439740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60920" y="407052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60920" y="373068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82800" y="3887640"/>
              <a:ext cx="1458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8600" y="4022640"/>
              <a:ext cx="1447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73320" y="4156200"/>
              <a:ext cx="18252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55840" y="4325760"/>
              <a:ext cx="18252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38360" y="4495680"/>
              <a:ext cx="35064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9000" y="4835520"/>
              <a:ext cx="36540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54400" y="5162400"/>
              <a:ext cx="36324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7640" y="5502240"/>
              <a:ext cx="36360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8840" y="5987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5400" y="5648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2320" y="531972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2320" y="497988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320" y="465300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2320" y="43131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320" y="398628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2320" y="36464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72640" y="618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476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7080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9764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1368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82000" y="6435720"/>
              <a:ext cx="124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itial Capital Cost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6200000">
              <a:off x="-64080" y="47847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 or M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93760" y="5987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93760" y="56484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93760" y="53197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3760" y="4979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93760" y="465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93760" y="4313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93760" y="3986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93760" y="3646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3884400" y="4825440"/>
              <a:ext cx="68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480" y="3487680"/>
              <a:ext cx="4440240" cy="331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912960" y="5065560"/>
              <a:ext cx="29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8800" y="405432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90680" y="511488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28920" y="5446800"/>
              <a:ext cx="95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733040" y="4313160"/>
              <a:ext cx="16380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201320" y="5240160"/>
              <a:ext cx="190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146240" y="5649480"/>
              <a:ext cx="42372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1600200" y="1851120"/>
            <a:ext cx="5362560" cy="3152520"/>
            <a:chOff x="1600200" y="1851120"/>
            <a:chExt cx="5362560" cy="3152520"/>
          </a:xfrm>
        </p:grpSpPr>
        <p:sp>
          <p:nvSpPr>
            <p:cNvPr id="748" name=""/>
            <p:cNvSpPr/>
            <p:nvPr/>
          </p:nvSpPr>
          <p:spPr>
            <a:xfrm>
              <a:off x="1600200" y="1851120"/>
              <a:ext cx="5362560" cy="315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57640" y="1946160"/>
              <a:ext cx="3467160" cy="2428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257640" y="4155840"/>
              <a:ext cx="327672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57640" y="3917880"/>
              <a:ext cx="3247920" cy="1803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57640" y="3670200"/>
              <a:ext cx="245736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57640" y="3431880"/>
              <a:ext cx="164772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57640" y="3184200"/>
              <a:ext cx="130500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57640" y="2946240"/>
              <a:ext cx="108576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57640" y="2698560"/>
              <a:ext cx="86688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57640" y="2460240"/>
              <a:ext cx="60948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57640" y="2212920"/>
              <a:ext cx="52380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57640" y="1974600"/>
              <a:ext cx="47628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25764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69576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12452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56264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991040" y="4375080"/>
              <a:ext cx="180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429160" y="4375080"/>
              <a:ext cx="180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85792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296040" y="4375080"/>
              <a:ext cx="180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72480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19480" y="437508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19480" y="412740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19480" y="38890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19480" y="3641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19480" y="340344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19480" y="315576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19480" y="2917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19480" y="267012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19480" y="243180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19480" y="21841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19480" y="194616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71600" y="4479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7120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9996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3808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6684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0496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3336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7148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0024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62440" y="41749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05200" y="39366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75520" y="368928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21000" y="3450960"/>
              <a:ext cx="73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/E Multip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7440" y="320328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ed 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47640" y="2965320"/>
              <a:ext cx="73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 Op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3600" y="2717640"/>
              <a:ext cx="148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ounting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88160" y="2479320"/>
              <a:ext cx="88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ulation/V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19760" y="2231640"/>
              <a:ext cx="96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fitability 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56880" y="1993680"/>
              <a:ext cx="131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justed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01200" y="4698720"/>
              <a:ext cx="436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ercentage of CFOs who always or almost always use a given techn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00200" y="1851120"/>
              <a:ext cx="5362560" cy="31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113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880" y="3659040"/>
              <a:ext cx="3619440" cy="2481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0400" y="61405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400" y="61326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400" y="55260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0400" y="52135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0400" y="4900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0400" y="45878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400" y="42847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0400" y="3973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0400" y="36590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3880" y="5827680"/>
              <a:ext cx="361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3880" y="613260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527120" y="6132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440080" y="613260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41520" y="6132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43320" y="6132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3880" y="3833640"/>
              <a:ext cx="452520" cy="15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6400" y="5375160"/>
              <a:ext cx="4507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7120" y="5641920"/>
              <a:ext cx="4510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8200" y="5746680"/>
              <a:ext cx="461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40080" y="5803920"/>
              <a:ext cx="4507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0800" y="5840280"/>
              <a:ext cx="4507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41520" y="5862600"/>
              <a:ext cx="4525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7800" y="3787920"/>
              <a:ext cx="92160" cy="918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8880" y="5329080"/>
              <a:ext cx="93600" cy="92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81040" y="5595840"/>
              <a:ext cx="9216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32120" y="5700600"/>
              <a:ext cx="91800" cy="92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4000" y="5757840"/>
              <a:ext cx="9216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4720" y="5792760"/>
              <a:ext cx="9216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5800" y="5815080"/>
              <a:ext cx="9180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7960" y="5840280"/>
              <a:ext cx="92160" cy="92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440" y="6060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3320" y="574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3320" y="54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3480" y="513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3480" y="4818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3480" y="4506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3480" y="4205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480" y="3890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3480" y="357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004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9184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988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312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492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8000" y="648180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-297720" y="485964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704680" y="5359320"/>
              <a:ext cx="26676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05040" y="5083200"/>
              <a:ext cx="163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701800" y="2252520"/>
            <a:ext cx="3765600" cy="1063800"/>
            <a:chOff x="2701800" y="2252520"/>
            <a:chExt cx="3765600" cy="1063800"/>
          </a:xfrm>
        </p:grpSpPr>
        <p:sp>
          <p:nvSpPr>
            <p:cNvPr id="164" name=""/>
            <p:cNvSpPr/>
            <p:nvPr/>
          </p:nvSpPr>
          <p:spPr>
            <a:xfrm>
              <a:off x="2701800" y="2252520"/>
              <a:ext cx="3765600" cy="1063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8440" y="245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2560" y="245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5240" y="245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7720" y="2925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7640" y="2925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30320" y="2925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1400" y="272412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1400" y="266220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16400" y="266220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2320" y="266220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3432240"/>
            <a:ext cx="4549680" cy="3425760"/>
            <a:chOff x="0" y="3432240"/>
            <a:chExt cx="4549680" cy="3425760"/>
          </a:xfrm>
        </p:grpSpPr>
        <p:sp>
          <p:nvSpPr>
            <p:cNvPr id="176" name=""/>
            <p:cNvSpPr/>
            <p:nvPr/>
          </p:nvSpPr>
          <p:spPr>
            <a:xfrm>
              <a:off x="0" y="3436920"/>
              <a:ext cx="4549680" cy="342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0360" y="3678120"/>
              <a:ext cx="3670200" cy="264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6880" y="6323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880" y="59403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6880" y="55674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880" y="518472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880" y="4815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6880" y="44323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880" y="40622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" y="36781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360" y="5567400"/>
              <a:ext cx="36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0360" y="556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368360" y="55674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095560" y="556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833560" y="55674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562200" y="55674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300560" y="556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360" y="4062240"/>
              <a:ext cx="738000" cy="628920"/>
            </a:xfrm>
            <a:custGeom>
              <a:avLst/>
              <a:gdLst/>
              <a:ahLst/>
              <a:rect l="l" t="t" r="r" b="b"/>
              <a:pathLst>
                <a:path w="465" h="365">
                  <a:moveTo>
                    <a:pt x="0" y="0"/>
                  </a:moveTo>
                  <a:lnTo>
                    <a:pt x="232" y="186"/>
                  </a:lnTo>
                  <a:lnTo>
                    <a:pt x="465" y="3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8360" y="4691160"/>
              <a:ext cx="727200" cy="568080"/>
            </a:xfrm>
            <a:custGeom>
              <a:avLst/>
              <a:gdLst/>
              <a:ahLst/>
              <a:rect l="l" t="t" r="r" b="b"/>
              <a:pathLst>
                <a:path w="458" h="330">
                  <a:moveTo>
                    <a:pt x="0" y="0"/>
                  </a:moveTo>
                  <a:lnTo>
                    <a:pt x="226" y="172"/>
                  </a:lnTo>
                  <a:lnTo>
                    <a:pt x="458" y="3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5560" y="5259240"/>
              <a:ext cx="738000" cy="495360"/>
            </a:xfrm>
            <a:custGeom>
              <a:avLst/>
              <a:gdLst/>
              <a:ahLst/>
              <a:rect l="l" t="t" r="r" b="b"/>
              <a:pathLst>
                <a:path w="465" h="287">
                  <a:moveTo>
                    <a:pt x="0" y="0"/>
                  </a:moveTo>
                  <a:lnTo>
                    <a:pt x="233" y="151"/>
                  </a:lnTo>
                  <a:lnTo>
                    <a:pt x="465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3560" y="5754600"/>
              <a:ext cx="728640" cy="443160"/>
            </a:xfrm>
            <a:custGeom>
              <a:avLst/>
              <a:gdLst/>
              <a:ahLst/>
              <a:rect l="l" t="t" r="r" b="b"/>
              <a:pathLst>
                <a:path w="459" h="258">
                  <a:moveTo>
                    <a:pt x="0" y="0"/>
                  </a:moveTo>
                  <a:lnTo>
                    <a:pt x="233" y="129"/>
                  </a:lnTo>
                  <a:lnTo>
                    <a:pt x="459" y="2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360" y="4000680"/>
              <a:ext cx="96840" cy="964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34" y="0"/>
                  </a:moveTo>
                  <a:lnTo>
                    <a:pt x="68" y="36"/>
                  </a:lnTo>
                  <a:lnTo>
                    <a:pt x="34" y="71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360" y="4629240"/>
              <a:ext cx="96840" cy="96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34" y="0"/>
                  </a:moveTo>
                  <a:lnTo>
                    <a:pt x="68" y="36"/>
                  </a:lnTo>
                  <a:lnTo>
                    <a:pt x="34" y="72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1560" y="5197320"/>
              <a:ext cx="96840" cy="96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34" y="0"/>
                  </a:moveTo>
                  <a:lnTo>
                    <a:pt x="68" y="36"/>
                  </a:lnTo>
                  <a:lnTo>
                    <a:pt x="34" y="72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9560" y="5691240"/>
              <a:ext cx="96840" cy="9684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34" y="0"/>
                  </a:moveTo>
                  <a:lnTo>
                    <a:pt x="69" y="36"/>
                  </a:lnTo>
                  <a:lnTo>
                    <a:pt x="34" y="72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06760" y="6135840"/>
              <a:ext cx="96840" cy="9684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35" y="0"/>
                  </a:moveTo>
                  <a:lnTo>
                    <a:pt x="69" y="36"/>
                  </a:lnTo>
                  <a:lnTo>
                    <a:pt x="35" y="72"/>
                  </a:lnTo>
                  <a:lnTo>
                    <a:pt x="0" y="3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9360" y="6235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52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7360" y="548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360" y="509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560" y="4729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560" y="4344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560" y="397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2560" y="3592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2520" y="5680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80880" y="5680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75680" y="5680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0880" y="5680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7200" y="648180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18000" y="494496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3432240"/>
              <a:ext cx="4549680" cy="3421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593800" y="4981680"/>
              <a:ext cx="30168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93800" y="4686480"/>
              <a:ext cx="147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0480" y="3484440"/>
            <a:ext cx="4440240" cy="3316320"/>
            <a:chOff x="60480" y="3484440"/>
            <a:chExt cx="4440240" cy="3316320"/>
          </a:xfrm>
        </p:grpSpPr>
        <p:sp>
          <p:nvSpPr>
            <p:cNvPr id="220" name=""/>
            <p:cNvSpPr/>
            <p:nvPr/>
          </p:nvSpPr>
          <p:spPr>
            <a:xfrm>
              <a:off x="60480" y="3484440"/>
              <a:ext cx="4440240" cy="331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76320" y="3713040"/>
              <a:ext cx="3341520" cy="2401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960" y="61149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39960" y="57150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9960" y="53150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39960" y="49132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9960" y="45133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9960" y="4113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9960" y="37130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97632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53684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085840" y="61146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4636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0832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755880" y="61146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317840" y="61146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976320" y="3908160"/>
              <a:ext cx="56052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36840" y="390852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536840" y="4273560"/>
              <a:ext cx="54900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85840" y="4273560"/>
              <a:ext cx="180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085840" y="4673160"/>
              <a:ext cx="560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6360" y="4673520"/>
              <a:ext cx="144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46360" y="5108400"/>
              <a:ext cx="56196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8320" y="5108400"/>
              <a:ext cx="144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08320" y="5587920"/>
              <a:ext cx="5475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55880" y="5587920"/>
              <a:ext cx="180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4600" y="603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" y="5634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" y="5234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640" y="4834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8640" y="4433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5200" y="4033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200" y="36338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960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9976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4912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964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980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916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8112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00200" y="6458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64440" y="48456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65360" y="3903840"/>
              <a:ext cx="69840" cy="2030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5040 h 203040"/>
                <a:gd name="textAreaBottom" fmla="*/ 1980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85880" y="387684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1640" y="4272120"/>
              <a:ext cx="69840" cy="49212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12600 h 492120"/>
                <a:gd name="textAreaBottom" fmla="*/ 47952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84480" y="4390920"/>
              <a:ext cx="78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61920" y="4114800"/>
              <a:ext cx="64764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701800" y="4406760"/>
            <a:ext cx="48769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1800" y="2703600"/>
            <a:ext cx="48769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01800" y="944640"/>
            <a:ext cx="48769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25720" y="1227240"/>
            <a:ext cx="4419720" cy="962280"/>
            <a:chOff x="2925720" y="1227240"/>
            <a:chExt cx="4419720" cy="962280"/>
          </a:xfrm>
        </p:grpSpPr>
        <p:sp>
          <p:nvSpPr>
            <p:cNvPr id="271" name=""/>
            <p:cNvSpPr/>
            <p:nvPr/>
          </p:nvSpPr>
          <p:spPr>
            <a:xfrm>
              <a:off x="3687840" y="168444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0120" y="16844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88240" y="12272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808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604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6400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232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8028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59640" y="18367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25720" y="191304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25720" y="14097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u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911320" y="2987640"/>
            <a:ext cx="4419720" cy="957240"/>
            <a:chOff x="2911320" y="2987640"/>
            <a:chExt cx="4419720" cy="957240"/>
          </a:xfrm>
        </p:grpSpPr>
        <p:sp>
          <p:nvSpPr>
            <p:cNvPr id="283" name=""/>
            <p:cNvSpPr/>
            <p:nvPr/>
          </p:nvSpPr>
          <p:spPr>
            <a:xfrm>
              <a:off x="3673440" y="34398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120" y="29876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73840" y="34430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3404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200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996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792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6588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30840" y="31683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1320" y="36684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11320" y="3016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938320" y="4689360"/>
            <a:ext cx="4419720" cy="962280"/>
            <a:chOff x="2938320" y="4689360"/>
            <a:chExt cx="4419720" cy="962280"/>
          </a:xfrm>
        </p:grpSpPr>
        <p:sp>
          <p:nvSpPr>
            <p:cNvPr id="295" name=""/>
            <p:cNvSpPr/>
            <p:nvPr/>
          </p:nvSpPr>
          <p:spPr>
            <a:xfrm>
              <a:off x="3700440" y="51465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2720" y="514656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0840" y="468936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61040" y="49942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4600" y="51433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76960" y="49942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84920" y="51418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92880" y="49942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72240" y="5299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38320" y="537516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38320" y="48718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u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430880" y="274320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33760" y="10112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33760" y="443880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310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200" y="3652920"/>
              <a:ext cx="3681360" cy="2531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2720" y="6184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2720" y="58262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720" y="54561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720" y="50976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2720" y="4738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2720" y="4381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2720" y="40114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2720" y="3652920"/>
              <a:ext cx="41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4620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16856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70352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2552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74788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27168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520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32756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46200" y="4716000"/>
              <a:ext cx="522360" cy="11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168560" y="4144680"/>
              <a:ext cx="53496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703520" y="3909600"/>
              <a:ext cx="52200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225520" y="3898440"/>
              <a:ext cx="5223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47880" y="3898800"/>
              <a:ext cx="5238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71680" y="4022640"/>
              <a:ext cx="53352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560" y="578016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23920" y="46720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58880" y="4100400"/>
              <a:ext cx="716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81240" y="386568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03600" y="38545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27400" y="397656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60920" y="418932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7640" y="61070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7640" y="5748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4240" y="5378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240" y="50198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4240" y="4660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4240" y="4302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0320" y="393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0320" y="3573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236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6960" y="6286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2324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1392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7120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5828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2672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1740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91880" y="651996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-305640" y="485640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4400" y="4014720"/>
              <a:ext cx="369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048040" y="4087800"/>
              <a:ext cx="48888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6640" y="4691160"/>
              <a:ext cx="15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s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882880" y="4060800"/>
              <a:ext cx="297000" cy="5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0" y="3478320"/>
            <a:ext cx="4465800" cy="3379680"/>
            <a:chOff x="0" y="3478320"/>
            <a:chExt cx="4465800" cy="3379680"/>
          </a:xfrm>
        </p:grpSpPr>
        <p:sp>
          <p:nvSpPr>
            <p:cNvPr id="364" name=""/>
            <p:cNvSpPr/>
            <p:nvPr/>
          </p:nvSpPr>
          <p:spPr>
            <a:xfrm>
              <a:off x="0" y="3478320"/>
              <a:ext cx="4465800" cy="337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2280" y="3711600"/>
              <a:ext cx="3081240" cy="29019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0480" y="4587840"/>
              <a:ext cx="92160" cy="173988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3844800"/>
              <a:ext cx="85680" cy="74160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74720" y="3900600"/>
              <a:ext cx="84240" cy="68580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87720" y="4221000"/>
              <a:ext cx="85680" cy="36540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5040" y="3941640"/>
              <a:ext cx="87480" cy="64296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16240" y="3911760"/>
              <a:ext cx="88920" cy="67464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2320" y="661356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2320" y="632628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2320" y="603720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2320" y="573876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2320" y="545004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2320" y="516240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2320" y="487512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2320" y="458640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2320" y="428796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2320" y="399888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2320" y="371160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2280" y="4586400"/>
              <a:ext cx="30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9228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20816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71612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23200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74968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255840" y="454140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77352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3920" y="661356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920" y="632628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33920" y="603720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33920" y="573876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33920" y="545004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33920" y="516240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33920" y="487512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33920" y="458640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920" y="428796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33920" y="39988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371160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9040" y="5583240"/>
              <a:ext cx="51588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1204920" y="4897080"/>
              <a:ext cx="5176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22600" y="4541760"/>
              <a:ext cx="5061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243160" y="3900240"/>
              <a:ext cx="51768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89040" y="5649480"/>
              <a:ext cx="515880" cy="6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204920" y="5084640"/>
              <a:ext cx="51768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722600" y="4819680"/>
              <a:ext cx="50616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228760" y="4376880"/>
              <a:ext cx="51768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760840" y="3967200"/>
              <a:ext cx="515880" cy="4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8800" y="6292800"/>
              <a:ext cx="58680" cy="666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9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5549760"/>
              <a:ext cx="58680" cy="6696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2360" y="486396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9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0320" y="4508640"/>
              <a:ext cx="58680" cy="666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6200" y="386712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9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8800" y="629280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76480" y="561672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92360" y="505152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16200" y="434340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33880" y="393228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0280" y="6524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280" y="6237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0280" y="5948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8680" y="5649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8680" y="5362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8680" y="507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8680" y="4786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240" y="44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6840" y="419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840" y="39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6840" y="36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7432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20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9816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1440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172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-332280" y="513252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Flow, $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9640" y="6524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9640" y="6237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69640" y="5948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0000" y="5649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0000" y="5362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0000" y="507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4786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70000" y="44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0000" y="419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70000" y="39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0000" y="36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3336120" y="5218560"/>
              <a:ext cx="180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Cash Flow, $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3478320"/>
              <a:ext cx="4465800" cy="33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30360" y="5348160"/>
              <a:ext cx="11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 Peri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55920" y="5789520"/>
              <a:ext cx="1187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ed Payback Peri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851120" y="4665240"/>
              <a:ext cx="298440" cy="11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2598480" y="4695480"/>
              <a:ext cx="3999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2117880" y="1027080"/>
            <a:ext cx="4876560" cy="3325680"/>
            <a:chOff x="2117880" y="1027080"/>
            <a:chExt cx="4876560" cy="3325680"/>
          </a:xfrm>
        </p:grpSpPr>
        <p:sp>
          <p:nvSpPr>
            <p:cNvPr id="456" name=""/>
            <p:cNvSpPr/>
            <p:nvPr/>
          </p:nvSpPr>
          <p:spPr>
            <a:xfrm>
              <a:off x="2117880" y="1027080"/>
              <a:ext cx="4876560" cy="33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290680" y="2733840"/>
              <a:ext cx="4578480" cy="1198440"/>
              <a:chOff x="2290680" y="2733840"/>
              <a:chExt cx="4578480" cy="1198440"/>
            </a:xfrm>
          </p:grpSpPr>
          <p:sp>
            <p:nvSpPr>
              <p:cNvPr id="458" name=""/>
              <p:cNvSpPr/>
              <p:nvPr/>
            </p:nvSpPr>
            <p:spPr>
              <a:xfrm>
                <a:off x="3066840" y="33354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69040" y="3184560"/>
                <a:ext cx="201600" cy="14292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2744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3540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336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5132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5928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94440" y="3473280"/>
                <a:ext cx="77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fe of 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90680" y="2733840"/>
                <a:ext cx="1066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quivalent Annual Cha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290680" y="1595520"/>
              <a:ext cx="4419720" cy="885960"/>
              <a:chOff x="2290680" y="1595520"/>
              <a:chExt cx="4419720" cy="885960"/>
            </a:xfrm>
          </p:grpSpPr>
          <p:sp>
            <p:nvSpPr>
              <p:cNvPr id="468" name=""/>
              <p:cNvSpPr/>
              <p:nvPr/>
            </p:nvSpPr>
            <p:spPr>
              <a:xfrm>
                <a:off x="3052800" y="2052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64120" y="1595520"/>
                <a:ext cx="228600" cy="4572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4600" y="2205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90680" y="1778040"/>
                <a:ext cx="106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P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4362480" y="23335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5:37:08Z</dcterms:created>
  <dc:creator>Frank</dc:creator>
  <dc:description/>
  <dc:language>en-US</dc:language>
  <cp:lastModifiedBy>frank crundwell</cp:lastModifiedBy>
  <dcterms:modified xsi:type="dcterms:W3CDTF">2007-08-16T16:45:50Z</dcterms:modified>
  <cp:revision>21</cp:revision>
  <dc:subject/>
  <dc:title>PowerPoint Presentation</dc:title>
</cp:coreProperties>
</file>